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B1B2-01CF-4180-93E8-DD2CF0DA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494A-DE71-4E70-8FAA-9D1FA729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EB61-FE0C-47DA-9BC9-0D1E72F0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F091-FD3A-4959-A68E-0B5237D7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A633-3D4A-4B31-8202-B7D562CB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4337-95E0-4DCA-9C69-9F14CC13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F7C5-61F5-4E7F-9BDE-166B50B7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726E-D0BC-4FF0-B8DB-5971A749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C276-26F6-45B3-9AEC-C5C6C0F7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E040-AFD1-4B71-9016-62496F1D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1A2F-564C-42B4-9E16-22D85278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AA40-74D6-4EDE-AB9B-14F8E696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9E96-E1AF-4B0C-B6EA-D14BE310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A921-BF7F-40F8-8FEB-FDE0DD88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376D-B208-4FC0-B55D-FFFE3DE4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923C-9A34-46B9-A9CF-206FAF45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54B1-48AB-4AB4-8CDF-CE15CBF4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E1EA-AE41-4B06-BFA4-1C370022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537A-9193-474E-98D2-FA534190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BA34-29AA-4F2F-AD77-570AAD78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DE5D-EEC9-4AE7-8627-8891490B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156B-E934-4EF8-9085-EBA2E270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4D3E-A739-400C-AAE6-449B036E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703B-26DA-4633-BED4-3603E864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AC2A-A8E8-4681-B92F-F66F7B543DAE}" type="slidenum">
              <a:rPr b="1" lang="pl-P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AFBE-DE7A-4F27-8AC2-9E8CDB5B3C75}" type="slidenum">
              <a:rPr b="1" lang="pl-P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ezpieczeństwo platformy .NE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160" y="2923920"/>
            <a:ext cx="3786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rian Ciur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otr Jakóbczyk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372360" y="5300640"/>
            <a:ext cx="2087280" cy="1020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572000" y="0"/>
            <a:ext cx="45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99"/>
                </a:solidFill>
                <a:latin typeface="Courier New"/>
              </a:rPr>
              <a:t>Zawansowane techniki programowania .NE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99"/>
                </a:solidFill>
                <a:latin typeface="Courier New"/>
              </a:rPr>
              <a:t>Uniwersytet Wrocławski 2005/200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99"/>
                </a:solidFill>
                <a:latin typeface="Courier New"/>
              </a:rPr>
              <a:t>11 października 200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dpisywanie kod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3366"/>
                </a:solidFill>
                <a:uFillTx/>
                <a:latin typeface="Arial"/>
              </a:rPr>
              <a:t>Demonstrac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Skrakowanie” nie zabezpieczonego podzespoł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Zabezpieczenie podzespołu za pomocą silnej nazwy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Wygenerowanie kluczy RSA: sn –k &lt;filename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Podpisanie podzespołu za pomocą atrybutów i ponowna kompilacj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Próba „skrakowania” zabezpieczonego podzespołu (nieudana </a:t>
            </a:r>
            <a:r>
              <a:rPr b="0" lang="pl-PL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Podpisywanie opóźnione </a:t>
            </a:r>
            <a:r>
              <a:rPr b="1" lang="pl-PL" sz="28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i="1" lang="pl-PL" sz="2800" spc="-1" strike="noStrike">
                <a:solidFill>
                  <a:srgbClr val="006666"/>
                </a:solidFill>
                <a:latin typeface="Arial"/>
              </a:rPr>
              <a:t>delay signing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ozwala zabezpieczyć klucz prywatn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Zmusza CLR do traktowania „częściowo” podpisanego podzespołu tak jak podzespół w pełni podpisan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Wyekstrahowanie klucza publiczneg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Ustawienie atrybutu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Rejestracja komponentu w system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860640"/>
            <a:ext cx="7561080" cy="505080"/>
          </a:xfrm>
          <a:prstGeom prst="roundRect">
            <a:avLst>
              <a:gd name="adj" fmla="val 76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80808"/>
                </a:solidFill>
                <a:latin typeface="Courier New"/>
              </a:rPr>
              <a:t>sn –p klucz.snk klucz_publiczny.sn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4941720"/>
            <a:ext cx="7561080" cy="503280"/>
          </a:xfrm>
          <a:prstGeom prst="roundRect">
            <a:avLst>
              <a:gd name="adj" fmla="val 76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Courier New"/>
              </a:rPr>
              <a:t>[</a:t>
            </a:r>
            <a:r>
              <a:rPr b="1" lang="pl-PL" sz="1800" spc="-1" strike="noStrike">
                <a:solidFill>
                  <a:srgbClr val="080808"/>
                </a:solidFill>
                <a:latin typeface="Courier New"/>
              </a:rPr>
              <a:t>assembly: AssemblyDelaySign(true)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6021360"/>
            <a:ext cx="7561080" cy="503280"/>
          </a:xfrm>
          <a:prstGeom prst="roundRect">
            <a:avLst>
              <a:gd name="adj" fmla="val 76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80808"/>
                </a:solidFill>
                <a:latin typeface="Courier New"/>
              </a:rPr>
              <a:t>sn –Vr assembly.dll, bc195845c354634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Podpisywanie kodu </a:t>
            </a:r>
            <a:br>
              <a:rPr sz="3600"/>
            </a:br>
            <a:r>
              <a:rPr b="1" lang="pl-PL" sz="2000" spc="-1" strike="noStrike">
                <a:solidFill>
                  <a:srgbClr val="006666"/>
                </a:solidFill>
                <a:latin typeface="Arial"/>
              </a:rPr>
              <a:t>Global Assembly Cach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C – Globalne repozytorium podzespołó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żna tam umieszczać tylko podzespoły posiadające silną nazwę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ktowane jest jako repozytorium zaufane – teoretycznie haker z uprawnieniami administratora może podmienić znajdujący się tam podzespó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dpisywanie kodu </a:t>
            </a:r>
            <a:br>
              <a:rPr sz="36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nioski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Strong name = cyfrowa sygnatur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Podstawowa opcja jeśli chodzi o kontrolę wersji komponentó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Gwarantuje tożsamość podzespoł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Strong name nie wymaga udziału firm trzecic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Strong name nie wspiera infrastruktury klucza publicznego (PKI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Podpisywanie ko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Uruchamianie aplikacji w środowisku 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Code Access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.NET vs Ja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ruchamianie aplikacji w środowisku .NE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6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Środowisko uruchomieniowe CL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rogramy są kompilowane do MSIL-a oraz metadanych opisujących typ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odzespoły (</a:t>
            </a: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assembly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) są ładowane do pamięci w momencie uruchomienia aplikacj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Kompilacja do kodu natywnego na poziomie metod przez kompilator JIT (just-in-tim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4869000"/>
            <a:ext cx="1656000" cy="10080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5229360"/>
            <a:ext cx="1727280" cy="9363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C#  V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Nemerle  J#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80000" y="5229360"/>
            <a:ext cx="1726920" cy="9363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MS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+ metada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59640" y="5229360"/>
            <a:ext cx="1728720" cy="9363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Ko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natywn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43280" y="5300640"/>
            <a:ext cx="718920" cy="86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24360" y="5300640"/>
            <a:ext cx="719280" cy="86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I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1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 jeszcze dzieje się podczas uruchamiania aplikacji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Częścią kompilacji JIT jest weryfikac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Weryfikacja MSIL oraz metadany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Poprawność wygenerowanego kod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Dostęp do pamięci i metod tylko poprzez poprawnie zdefiniowane typ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Zgodność typów (typy referencyjne wskazują na obiekty odpowiednich typów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Wykonywanie tylko zdefiniowanych operacji na obiektach danego typ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Implementacja interfejsów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Kontrola dostępu do pól i metod (prywatne, publiczn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Tylko kod zarządzany podlega weryfikacj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eryfikacja kod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Podział kodu MS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Invalid 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 - nie da się wygenerować kodu natywneg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Valid 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 - istnieje kod natywny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Type-safe 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– spełnia wszystkie wymagania typow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Verifiable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 – dodatkowe restrykcj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Co jeśli podczas kompilacji JIT metoda nie przejdzie pomyślnie weryfikacji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Nic się nie dzieje jeśli podzespół ma uprawnienia do pominięcia weryfikacj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W przeciwnym wypadku generowany jest kod rzucający wyjąt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Weryfikacja metadanych podzespołów MS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Podpisywanie ko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Uruchamianie aplikacji w środowisku 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Code Access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.NET vs Ja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Code Access Security (CAS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Bezpieczeństwo oparte na uprawnieniach ko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Mechanizm CL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Pozwala na ustalenie uprawnień dla określonych podzespołów ko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Uprawnienia te mogą być bardzo precyzyjnie dobrane w zależności m.in. o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ochodzenia kod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silnego podpis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wartości funkcji haszującej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Podpisywanie ko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Uruchamianie aplikacji w środowisku 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Code Access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.NET vs Ja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- świadectw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Świadectwa (</a:t>
            </a: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Evidences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Informacje o podzespole przedstawiane środowisku uruchomieniowemu CLR podczas jego ładowan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Przykłady dowodów przedstawianych przez aplikacj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Zone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URL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Hash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Strong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Name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Site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Application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Directory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Publisher Certificate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zestawy uprawnień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Zestawy uprawnień (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Permission Sets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Definiują dostęp do różnych zasobów system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Rodzaje zdefiniowanych zestawów uprawnień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t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calIntra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veryt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ullTru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Własne zestawy uprawnień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grupy kod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Grupy kodu (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Code Groups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Wiąże świadectwo z zestawem uprawnień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Efektywny zestaw uprawnień jest 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umą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uprawnień grup kodu, do których należy dana aplikac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116000" y="4076640"/>
            <a:ext cx="7487640" cy="2448360"/>
            <a:chOff x="1116000" y="4076640"/>
            <a:chExt cx="7487640" cy="2448360"/>
          </a:xfrm>
        </p:grpSpPr>
        <p:cxnSp>
          <p:nvCxnSpPr>
            <p:cNvPr id="161" name="_s18461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5294880" y="5084280"/>
              <a:ext cx="350640" cy="1222200"/>
            </a:xfrm>
            <a:prstGeom prst="bentConnector3">
              <a:avLst>
                <a:gd name="adj1" fmla="val 32682"/>
              </a:avLst>
            </a:prstGeom>
            <a:ln w="28440">
              <a:solidFill>
                <a:srgbClr val="145151"/>
              </a:solidFill>
              <a:miter/>
            </a:ln>
          </p:spPr>
        </p:cxnSp>
        <p:cxnSp>
          <p:nvCxnSpPr>
            <p:cNvPr id="164" name="_s18459"/>
            <p:cNvCxnSpPr>
              <a:stCxn id="165" idx="0"/>
              <a:endCxn id="163" idx="2"/>
            </p:cNvCxnSpPr>
            <p:nvPr/>
          </p:nvCxnSpPr>
          <p:spPr>
            <a:xfrm flipH="1" flipV="1" rot="5400000">
              <a:off x="4093560" y="5104800"/>
              <a:ext cx="350640" cy="1181160"/>
            </a:xfrm>
            <a:prstGeom prst="bentConnector3">
              <a:avLst>
                <a:gd name="adj1" fmla="val 32682"/>
              </a:avLst>
            </a:prstGeom>
            <a:ln w="28440">
              <a:solidFill>
                <a:srgbClr val="145151"/>
              </a:solidFill>
              <a:miter/>
            </a:ln>
          </p:spPr>
        </p:cxnSp>
        <p:cxnSp>
          <p:nvCxnSpPr>
            <p:cNvPr id="166" name="_s18444"/>
            <p:cNvCxnSpPr>
              <a:stCxn id="167" idx="0"/>
              <a:endCxn id="168" idx="2"/>
            </p:cNvCxnSpPr>
            <p:nvPr/>
          </p:nvCxnSpPr>
          <p:spPr>
            <a:xfrm flipV="1" rot="16200000">
              <a:off x="5979240" y="3507840"/>
              <a:ext cx="345240" cy="2585520"/>
            </a:xfrm>
            <a:prstGeom prst="bentConnector3">
              <a:avLst>
                <a:gd name="adj1" fmla="val 33089"/>
              </a:avLst>
            </a:prstGeom>
            <a:ln w="28440">
              <a:solidFill>
                <a:srgbClr val="145151"/>
              </a:solidFill>
              <a:miter/>
            </a:ln>
          </p:spPr>
        </p:cxnSp>
        <p:cxnSp>
          <p:nvCxnSpPr>
            <p:cNvPr id="169" name="_s18443"/>
            <p:cNvCxnSpPr>
              <a:stCxn id="163" idx="0"/>
              <a:endCxn id="168" idx="2"/>
            </p:cNvCxnSpPr>
            <p:nvPr/>
          </p:nvCxnSpPr>
          <p:spPr>
            <a:xfrm flipV="1">
              <a:off x="4859640" y="4628160"/>
              <a:ext cx="3600" cy="345240"/>
            </a:xfrm>
            <a:prstGeom prst="bentConnector2">
              <a:avLst/>
            </a:prstGeom>
            <a:ln w="28440">
              <a:solidFill>
                <a:srgbClr val="145151"/>
              </a:solidFill>
              <a:miter/>
            </a:ln>
          </p:spPr>
        </p:cxnSp>
        <p:cxnSp>
          <p:nvCxnSpPr>
            <p:cNvPr id="170" name="_s18442"/>
            <p:cNvCxnSpPr>
              <a:stCxn id="171" idx="0"/>
              <a:endCxn id="168" idx="2"/>
            </p:cNvCxnSpPr>
            <p:nvPr/>
          </p:nvCxnSpPr>
          <p:spPr>
            <a:xfrm flipH="1" flipV="1" rot="5400000">
              <a:off x="3394800" y="3508560"/>
              <a:ext cx="345240" cy="2584800"/>
            </a:xfrm>
            <a:prstGeom prst="bentConnector3">
              <a:avLst>
                <a:gd name="adj1" fmla="val 33089"/>
              </a:avLst>
            </a:prstGeom>
            <a:ln w="28440">
              <a:solidFill>
                <a:srgbClr val="145151"/>
              </a:solidFill>
              <a:miter/>
            </a:ln>
          </p:spPr>
        </p:cxnSp>
        <p:sp>
          <p:nvSpPr>
            <p:cNvPr id="168" name="_s18438"/>
            <p:cNvSpPr/>
            <p:nvPr/>
          </p:nvSpPr>
          <p:spPr>
            <a:xfrm>
              <a:off x="3700080" y="4076640"/>
              <a:ext cx="2318760" cy="533880"/>
            </a:xfrm>
            <a:prstGeom prst="roundRect">
              <a:avLst>
                <a:gd name="adj" fmla="val 16667"/>
              </a:avLst>
            </a:prstGeom>
            <a:solidFill>
              <a:srgbClr val="85e1e1"/>
            </a:solidFill>
            <a:ln w="38160">
              <a:solidFill>
                <a:srgbClr val="145151"/>
              </a:solidFill>
              <a:miter/>
            </a:ln>
            <a:effectLst>
              <a:outerShdw dist="53966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300" spc="-1" strike="noStrike">
                  <a:solidFill>
                    <a:srgbClr val="003366"/>
                  </a:solidFill>
                  <a:latin typeface="Arial"/>
                </a:rPr>
                <a:t>All Code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300" spc="-1" strike="noStrike">
                  <a:solidFill>
                    <a:srgbClr val="003366"/>
                  </a:solidFill>
                  <a:latin typeface="Arial"/>
                </a:rPr>
                <a:t>Nothing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_s18439"/>
            <p:cNvSpPr/>
            <p:nvPr/>
          </p:nvSpPr>
          <p:spPr>
            <a:xfrm>
              <a:off x="1116000" y="4973400"/>
              <a:ext cx="2318760" cy="533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28440">
              <a:solidFill>
                <a:srgbClr val="145151"/>
              </a:solidFill>
              <a:miter/>
            </a:ln>
            <a:effectLst>
              <a:outerShdw dist="53966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300" spc="-1" strike="noStrike">
                  <a:solidFill>
                    <a:srgbClr val="003366"/>
                  </a:solidFill>
                  <a:latin typeface="Arial"/>
                </a:rPr>
                <a:t>Zone: </a:t>
              </a:r>
              <a:r>
                <a:rPr b="1" i="1" lang="pl-PL" sz="1300" spc="-1" strike="noStrike">
                  <a:solidFill>
                    <a:srgbClr val="003366"/>
                  </a:solidFill>
                  <a:latin typeface="Arial"/>
                </a:rPr>
                <a:t>My Computer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300" spc="-1" strike="noStrike">
                  <a:solidFill>
                    <a:srgbClr val="003366"/>
                  </a:solidFill>
                  <a:latin typeface="Arial"/>
                </a:rPr>
                <a:t>FullTrust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_s18440"/>
            <p:cNvSpPr/>
            <p:nvPr/>
          </p:nvSpPr>
          <p:spPr>
            <a:xfrm>
              <a:off x="3700080" y="4973400"/>
              <a:ext cx="2318760" cy="533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28440">
              <a:solidFill>
                <a:srgbClr val="145151"/>
              </a:solidFill>
              <a:miter/>
            </a:ln>
            <a:effectLst>
              <a:outerShdw dist="53966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300" spc="-1" strike="noStrike">
                  <a:solidFill>
                    <a:srgbClr val="003366"/>
                  </a:solidFill>
                  <a:latin typeface="Arial"/>
                </a:rPr>
                <a:t>Zone: </a:t>
              </a:r>
              <a:r>
                <a:rPr b="1" i="1" lang="pl-PL" sz="1300" spc="-1" strike="noStrike">
                  <a:solidFill>
                    <a:srgbClr val="003366"/>
                  </a:solidFill>
                  <a:latin typeface="Arial"/>
                </a:rPr>
                <a:t>Internet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300" spc="-1" strike="noStrike">
                  <a:solidFill>
                    <a:srgbClr val="003366"/>
                  </a:solidFill>
                  <a:latin typeface="Arial"/>
                </a:rPr>
                <a:t>Internet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_s18441"/>
            <p:cNvSpPr/>
            <p:nvPr/>
          </p:nvSpPr>
          <p:spPr>
            <a:xfrm>
              <a:off x="6284880" y="4973400"/>
              <a:ext cx="2318760" cy="533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28440">
              <a:solidFill>
                <a:srgbClr val="145151"/>
              </a:solidFill>
              <a:miter/>
            </a:ln>
            <a:effectLst>
              <a:outerShdw dist="53966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300" spc="-1" strike="noStrike">
                  <a:solidFill>
                    <a:srgbClr val="003366"/>
                  </a:solidFill>
                  <a:latin typeface="Arial"/>
                </a:rPr>
                <a:t>Zone: </a:t>
              </a:r>
              <a:r>
                <a:rPr b="1" i="1" lang="pl-PL" sz="1300" spc="-1" strike="noStrike">
                  <a:solidFill>
                    <a:srgbClr val="003366"/>
                  </a:solidFill>
                  <a:latin typeface="Arial"/>
                </a:rPr>
                <a:t>Intranet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300" spc="-1" strike="noStrike">
                  <a:solidFill>
                    <a:srgbClr val="003366"/>
                  </a:solidFill>
                  <a:latin typeface="Arial"/>
                </a:rPr>
                <a:t>LocalIntranet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_s18458"/>
            <p:cNvSpPr/>
            <p:nvPr/>
          </p:nvSpPr>
          <p:spPr>
            <a:xfrm>
              <a:off x="2626560" y="5870520"/>
              <a:ext cx="2101320" cy="654480"/>
            </a:xfrm>
            <a:prstGeom prst="roundRect">
              <a:avLst>
                <a:gd name="adj" fmla="val 16667"/>
              </a:avLst>
            </a:prstGeom>
            <a:solidFill>
              <a:srgbClr val="2fbcbc"/>
            </a:solidFill>
            <a:ln w="3240">
              <a:solidFill>
                <a:srgbClr val="145151"/>
              </a:solidFill>
              <a:miter/>
            </a:ln>
            <a:effectLst>
              <a:outerShdw dist="53966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300" spc="-1" strike="noStrike">
                  <a:solidFill>
                    <a:srgbClr val="003366"/>
                  </a:solidFill>
                  <a:latin typeface="Arial"/>
                </a:rPr>
                <a:t>URL: </a:t>
              </a:r>
              <a:r>
                <a:rPr b="1" i="1" lang="pl-PL" sz="1300" spc="-1" strike="noStrike">
                  <a:solidFill>
                    <a:srgbClr val="003366"/>
                  </a:solidFill>
                  <a:latin typeface="Arial"/>
                </a:rPr>
                <a:t>www.microsoft.com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300" spc="-1" strike="noStrike">
                  <a:solidFill>
                    <a:srgbClr val="003366"/>
                  </a:solidFill>
                  <a:latin typeface="Arial"/>
                </a:rPr>
                <a:t>MSPSet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_s18460"/>
            <p:cNvSpPr/>
            <p:nvPr/>
          </p:nvSpPr>
          <p:spPr>
            <a:xfrm>
              <a:off x="4993920" y="5870520"/>
              <a:ext cx="2170800" cy="654480"/>
            </a:xfrm>
            <a:prstGeom prst="roundRect">
              <a:avLst>
                <a:gd name="adj" fmla="val 16667"/>
              </a:avLst>
            </a:prstGeom>
            <a:solidFill>
              <a:srgbClr val="2fbcbc"/>
            </a:solidFill>
            <a:ln w="3240">
              <a:solidFill>
                <a:srgbClr val="145151"/>
              </a:solidFill>
              <a:miter/>
            </a:ln>
            <a:effectLst>
              <a:outerShdw dist="53966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300" spc="-1" strike="noStrike">
                  <a:solidFill>
                    <a:srgbClr val="003366"/>
                  </a:solidFill>
                  <a:latin typeface="Arial"/>
                </a:rPr>
                <a:t>URL: </a:t>
              </a:r>
              <a:r>
                <a:rPr b="1" i="1" lang="pl-PL" sz="1300" spc="-1" strike="noStrike">
                  <a:solidFill>
                    <a:srgbClr val="003366"/>
                  </a:solidFill>
                  <a:latin typeface="Arial"/>
                </a:rPr>
                <a:t>www.ii.uni.wroc.pl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300" spc="-1" strike="noStrike">
                  <a:solidFill>
                    <a:srgbClr val="003366"/>
                  </a:solidFill>
                  <a:latin typeface="Arial"/>
                </a:rPr>
                <a:t>IIUniWrocPSet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poziomy zabezpieczeń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Poziomy zabezpieczeń (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Security Policy Levels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Enterpri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Machi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Application Doma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Efektywny zestaw uprawnień jest 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częścią wspólną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uprawnień wynikających z poszczególnych poziomó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zarządzanie polisam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nsola MM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stęp także z poziomu narzędzi administracyjnych panelu sterowan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monstrac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2936880" cy="4392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- ładowanie podzespoł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 się dzieje po załadowaniu podzespołu przez CL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Ładowanie podzespoł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bieranie świadectw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Ładowanie polis bezpieczeństw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zyznawanie uprawnie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ryfikacja kodu (podczas kompilacji JI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ykonanie ko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CAS – operacja </a:t>
            </a:r>
            <a:r>
              <a:rPr b="1" i="1" lang="pl-PL" sz="3600" spc="-1" strike="noStrike">
                <a:solidFill>
                  <a:srgbClr val="006666"/>
                </a:solidFill>
                <a:latin typeface="Arial"/>
              </a:rPr>
              <a:t>Stack Wal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805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Sprawdzanie poziomu uprawnień każdej metody na stosie wywoła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Zapobiega atakom typu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„luring attack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Operacja „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Permission demand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32360" y="2421000"/>
            <a:ext cx="3816360" cy="4248000"/>
          </a:xfrm>
          <a:custGeom>
            <a:avLst/>
            <a:gdLst>
              <a:gd name="textAreaLeft" fmla="*/ 186120 w 3816360"/>
              <a:gd name="textAreaRight" fmla="*/ 3630240 w 3816360"/>
              <a:gd name="textAreaTop" fmla="*/ 186120 h 4248000"/>
              <a:gd name="textAreaBottom" fmla="*/ 4061880 h 4248000"/>
            </a:gdLst>
            <a:ahLst/>
            <a:rect l="textAreaLeft" t="textAreaTop" r="textAreaRight" b="textAreaBottom"/>
            <a:pathLst>
              <a:path w="21600" h="24043">
                <a:moveTo>
                  <a:pt x="3600" y="0"/>
                </a:moveTo>
                <a:arcTo wR="3600" hR="3600" stAng="16200000" swAng="-5400000"/>
                <a:lnTo>
                  <a:pt x="0" y="20443"/>
                </a:lnTo>
                <a:arcTo wR="3600" hR="3600" stAng="10800000" swAng="-5400000"/>
                <a:lnTo>
                  <a:pt x="18000" y="240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The Call Stac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08720" y="2997360"/>
            <a:ext cx="3024000" cy="720720"/>
          </a:xfrm>
          <a:prstGeom prst="flowChartAlternateProcess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ssembly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(Execute only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84720" y="4294080"/>
            <a:ext cx="2448000" cy="720720"/>
          </a:xfrm>
          <a:prstGeom prst="flowChartAlternateProcess">
            <a:avLst/>
          </a:prstGeom>
          <a:gradFill rotWithShape="0">
            <a:gsLst>
              <a:gs pos="0">
                <a:srgbClr val="fefef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ssembly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(Execute + WriteFil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5589720"/>
            <a:ext cx="3384360" cy="720720"/>
          </a:xfrm>
          <a:prstGeom prst="flowChartAlternateProcess">
            <a:avLst/>
          </a:prstGeom>
          <a:gradFill rotWithShape="0">
            <a:gsLst>
              <a:gs pos="0">
                <a:srgbClr val="fefefe"/>
              </a:gs>
              <a:gs pos="100000">
                <a:srgbClr val="33cc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.NET Framework Assemb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(Execute + WriteFil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443640" y="3718080"/>
            <a:ext cx="1655640" cy="576000"/>
            <a:chOff x="6443640" y="3718080"/>
            <a:chExt cx="1655640" cy="576000"/>
          </a:xfrm>
        </p:grpSpPr>
        <p:sp>
          <p:nvSpPr>
            <p:cNvPr id="186" name=""/>
            <p:cNvSpPr/>
            <p:nvPr/>
          </p:nvSpPr>
          <p:spPr>
            <a:xfrm>
              <a:off x="7236000" y="3718080"/>
              <a:ext cx="0" cy="576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43640" y="3862080"/>
              <a:ext cx="1655640" cy="286920"/>
            </a:xfrm>
            <a:prstGeom prst="flowChartTerminator">
              <a:avLst/>
            </a:prstGeom>
            <a:solidFill>
              <a:srgbClr val="99c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riteFi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443640" y="5013360"/>
            <a:ext cx="1655640" cy="576360"/>
            <a:chOff x="6443640" y="5013360"/>
            <a:chExt cx="1655640" cy="576360"/>
          </a:xfrm>
        </p:grpSpPr>
        <p:sp>
          <p:nvSpPr>
            <p:cNvPr id="189" name=""/>
            <p:cNvSpPr/>
            <p:nvPr/>
          </p:nvSpPr>
          <p:spPr>
            <a:xfrm>
              <a:off x="7236000" y="5013360"/>
              <a:ext cx="0" cy="576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43640" y="5158080"/>
              <a:ext cx="1655640" cy="287280"/>
            </a:xfrm>
            <a:prstGeom prst="flowChartTerminator">
              <a:avLst/>
            </a:prstGeom>
            <a:solidFill>
              <a:srgbClr val="99ff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riteFi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643280" y="3717720"/>
            <a:ext cx="1366920" cy="1871640"/>
            <a:chOff x="4643280" y="3717720"/>
            <a:chExt cx="1366920" cy="1871640"/>
          </a:xfrm>
        </p:grpSpPr>
        <p:sp>
          <p:nvSpPr>
            <p:cNvPr id="192" name=""/>
            <p:cNvSpPr/>
            <p:nvPr/>
          </p:nvSpPr>
          <p:spPr>
            <a:xfrm flipV="1">
              <a:off x="5724360" y="3717720"/>
              <a:ext cx="0" cy="1871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43280" y="4365720"/>
              <a:ext cx="1366920" cy="574560"/>
            </a:xfrm>
            <a:prstGeom prst="flowChartTerminator">
              <a:avLst/>
            </a:prstGeom>
            <a:solidFill>
              <a:srgbClr val="33cc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ermissio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ma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643280" y="5157720"/>
            <a:ext cx="2449800" cy="15573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Excep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- ustalanie uprawnieniam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808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.NET Framework umożliwia programiście sterowanie uprawnieniami kodu na dwa sposob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Imperatywn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oprzez wywoływanie odpowiednich meto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Deklaratywn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oprzez umieszczanie odpowiednich atrybutów przed metodami oraz klasam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uprawnienia imperatywn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Interfejs </a:t>
            </a:r>
            <a:r>
              <a:rPr b="1" lang="pl-PL" sz="2000" spc="-1" strike="noStrike">
                <a:solidFill>
                  <a:srgbClr val="003366"/>
                </a:solidFill>
                <a:latin typeface="Courier New"/>
              </a:rPr>
              <a:t>IPermiss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Operacje na zestawach uprawnień:</a:t>
            </a:r>
            <a:br>
              <a:rPr sz="1800"/>
            </a:b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3366"/>
                </a:solidFill>
                <a:latin typeface="Courier New"/>
              </a:rPr>
              <a:t>Union</a:t>
            </a: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800" spc="-1" strike="noStrike">
                <a:solidFill>
                  <a:srgbClr val="003366"/>
                </a:solidFill>
                <a:latin typeface="Courier New"/>
              </a:rPr>
              <a:t>Intersect</a:t>
            </a: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800" spc="-1" strike="noStrike">
                <a:solidFill>
                  <a:srgbClr val="003366"/>
                </a:solidFill>
                <a:latin typeface="Courier New"/>
              </a:rPr>
              <a:t>IsSubsetO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Klasy dziedziczące z </a:t>
            </a:r>
            <a:r>
              <a:rPr b="1" lang="pl-PL" sz="2000" spc="-1" strike="noStrike">
                <a:solidFill>
                  <a:srgbClr val="003366"/>
                </a:solidFill>
                <a:latin typeface="Courier New"/>
              </a:rPr>
              <a:t>CodeAccessPermission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Przykłady: </a:t>
            </a:r>
            <a:br>
              <a:rPr sz="1600"/>
            </a:b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FileIOPermission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SecurityPermission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ReflectionPermiss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rzestrzeń nazw </a:t>
            </a:r>
            <a:r>
              <a:rPr b="1" lang="pl-PL" sz="2000" spc="-1" strike="noStrike">
                <a:solidFill>
                  <a:srgbClr val="003366"/>
                </a:solidFill>
                <a:latin typeface="Courier New"/>
              </a:rPr>
              <a:t>System.Security.Permiss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Ważniejsze operacje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Assert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Demand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Deny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PermitOnl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RevertAssert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RevertDeny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RevertPermitOnly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RevertAl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uprawnienia imperatywn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87280" y="2421000"/>
            <a:ext cx="7344000" cy="4103640"/>
          </a:xfrm>
          <a:prstGeom prst="roundRect">
            <a:avLst>
              <a:gd name="adj" fmla="val 321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static void Main(string[] arg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FileIOPermission p = new FileIOPermission(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FileIOPermissionAccess.Write, "D:\\"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p.Assert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StreamWriter sw =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new StreamWriter("D:\\test.txt"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sw.WriteLine("TEST"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sw.Clos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FileIOPermission.RevertAssert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naczenie bezpieczeństw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Bezpieczeństwo w systemie Windo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Każdy proces otrzymuję własną tożsamość i uprawnienia oparte o kontekst danego użytkowni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Model ten nie jest efektywny z wielu względów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Złośliwy” kod może łatwo obejść ograniczenia uprawnień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Nie mamy możliwości kontroli całego kod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Różne kawałki kodu pochodzą ze środowisk o różnych poziomach uprzywilejowan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uprawnienia deklaratywn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Atrybuty (klasy) dziedziczące z </a:t>
            </a:r>
            <a:r>
              <a:rPr b="1" lang="pl-PL" sz="2400" spc="-1" strike="noStrike">
                <a:solidFill>
                  <a:srgbClr val="003366"/>
                </a:solidFill>
                <a:latin typeface="Courier New"/>
              </a:rPr>
              <a:t>CodeAccessSecurityAttribute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Przykłady: </a:t>
            </a:r>
            <a:r>
              <a:rPr b="1" lang="pl-PL" sz="1800" spc="-1" strike="noStrike">
                <a:solidFill>
                  <a:srgbClr val="003366"/>
                </a:solidFill>
                <a:latin typeface="Courier New"/>
              </a:rPr>
              <a:t>FileIOPermissionAttribute</a:t>
            </a: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800" spc="-1" strike="noStrike">
                <a:solidFill>
                  <a:srgbClr val="003366"/>
                </a:solidFill>
                <a:latin typeface="Courier New"/>
              </a:rPr>
              <a:t>ReflectionPermissionAttribute</a:t>
            </a: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800" spc="-1" strike="noStrike">
                <a:solidFill>
                  <a:srgbClr val="003366"/>
                </a:solidFill>
                <a:latin typeface="Courier New"/>
              </a:rPr>
              <a:t>PermissionSetAttribu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Deklaracje na różnych pozioma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odzespół (</a:t>
            </a: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assembly-level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Klasa (</a:t>
            </a: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class-level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Metoda (</a:t>
            </a: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method-level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W zależności od działania inny moment sprawdzenia uprawnie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uprawnienia deklaratywn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042920" y="2637000"/>
          <a:ext cx="7693200" cy="3456000"/>
        </p:xfrm>
        <a:graphic>
          <a:graphicData uri="http://schemas.openxmlformats.org/drawingml/2006/table">
            <a:tbl>
              <a:tblPr/>
              <a:tblGrid>
                <a:gridCol w="3097440"/>
                <a:gridCol w="2376360"/>
                <a:gridCol w="2219400"/>
              </a:tblGrid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claration of security act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ime of act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argets supporte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LinkDemand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ust-in-time compilat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lass, Metho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InheritanceDemand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ad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lass, Metho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Demand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un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lass, Metho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Assert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un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lass, Metho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Deny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un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lass, Metho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PermitOnly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un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lass, Metho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RequestMinimum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ant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embl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RequestOptional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ant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embl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RequestRefuse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ant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embl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uprawnienia deklaratywn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87280" y="2421000"/>
            <a:ext cx="7344000" cy="4176720"/>
          </a:xfrm>
          <a:prstGeom prst="roundRect">
            <a:avLst>
              <a:gd name="adj" fmla="val 304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ourier New"/>
              </a:rPr>
              <a:t>[FileIOPermission(SecurityAction.Assert, Write="D:\\")]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class Class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static void Metoda1(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WriteFile("test1.txt"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Courier New"/>
              </a:rPr>
              <a:t>[FileIOPermission(SecurityAction.Deny, Write="D:\\")]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static void Metoda2(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WriteFile("test2.txt"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Courier New"/>
              </a:rPr>
              <a:t>[FileIOPermission(SecurityAction.Demand, Write="D:\\")]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static void WriteFile(string f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// zapis na dysk D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CAS – atrybuty </a:t>
            </a:r>
            <a:r>
              <a:rPr b="1" i="1" lang="pl-PL" sz="3200" spc="-1" strike="noStrike">
                <a:solidFill>
                  <a:srgbClr val="006666"/>
                </a:solidFill>
                <a:latin typeface="Arial"/>
              </a:rPr>
              <a:t>Permission Request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2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ff"/>
                </a:solidFill>
                <a:latin typeface="Courier New"/>
              </a:rPr>
              <a:t>RequestMinimum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 - „Jeżeli podzespół nie ma wyspecyfikowanych uprawnień nie ładuj go i wyrzuć wyjątek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ff"/>
                </a:solidFill>
                <a:latin typeface="Courier New"/>
              </a:rPr>
              <a:t>RequestOptional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 - „Załaduj podzespół mimo, że nie posiada on wyspecyfikowanych tutaj uprawnień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ff"/>
                </a:solidFill>
                <a:latin typeface="Courier New"/>
              </a:rPr>
              <a:t>RequestRefuse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 - „Nie przyznawaj podzespołowi tych uprawnień mimo, że wynikają one z ustawień bezpieczeństwa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87280" y="4508640"/>
            <a:ext cx="7344000" cy="2087280"/>
          </a:xfrm>
          <a:prstGeom prst="roundRect">
            <a:avLst>
              <a:gd name="adj" fmla="val 76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[assembly:UIPermissionAttribut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80808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80808"/>
                </a:solidFill>
                <a:latin typeface="Courier New"/>
              </a:rPr>
              <a:t>SecurityAction.RequestMinimum</a:t>
            </a: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Window=UIPermissionWindow.SafeSubWindows)]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[assembly:FileIOPermissionAttribu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80808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80808"/>
                </a:solidFill>
                <a:latin typeface="Courier New"/>
              </a:rPr>
              <a:t>SecurityAction.RequestOptional</a:t>
            </a: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,</a:t>
            </a:r>
            <a:r>
              <a:rPr b="0" lang="pl-PL" sz="1600" spc="-1" strike="noStrike">
                <a:solidFill>
                  <a:srgbClr val="080808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All="C:\\")]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Code Access Secur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DEMO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CAS - </a:t>
            </a:r>
            <a:r>
              <a:rPr b="1" i="1" lang="pl-PL" sz="3600" spc="-1" strike="noStrike">
                <a:solidFill>
                  <a:srgbClr val="006666"/>
                </a:solidFill>
                <a:latin typeface="Arial"/>
              </a:rPr>
              <a:t>AllowPartiallyTrustedCall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Domyślnie podzespoły podpisane silną nazwą mogą być wywoływane wyłącznie przez podzespoły z uprawnieniami „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FullTrust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Dodanie do podzespołu atrybutu APTC umożliwia użycie podzespołu przez częściowo zaufane podzespoł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Dodanie atrybutu APTC powoduje nie dodawanie domyślnie sprawdzenia uprawnień „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FullTrust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” w kontekście uprawnień „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LinkDemand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42920" y="5589720"/>
            <a:ext cx="7561440" cy="861840"/>
          </a:xfrm>
          <a:prstGeom prst="roundRect">
            <a:avLst>
              <a:gd name="adj" fmla="val 76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ourier New"/>
              </a:rPr>
              <a:t>[assembly: AllowPartiallyTrustedCallers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Środowisko w pełni zaufa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Full Trust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Większość kodu zarządzanego uruchamiana jest w trybie „</a:t>
            </a: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FullTrust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Implikacje tego faktu mogą być bardzo </a:t>
            </a:r>
            <a:r>
              <a:rPr b="1" lang="pl-PL" sz="2000" spc="-1" strike="noStrike">
                <a:solidFill>
                  <a:srgbClr val="ff3300"/>
                </a:solidFill>
                <a:latin typeface="Arial"/>
              </a:rPr>
              <a:t>niebezpiecz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Dlaczego uruchamiamy kod z upawnieniami „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FullTrust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” 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Brak możliwości wołania kodu niezarządzaneg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Brak możliwości wołania komponentów CO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Niemożność użycia ODBC lub Ole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Spora ilość bibliotek .NET nie posiada atrybutu APTC </a:t>
            </a: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(AllowPartiallyTrustedCaller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Środowisko w pełni zaufane (</a:t>
            </a:r>
            <a:r>
              <a:rPr b="1" i="1" lang="pl-PL" sz="3200" spc="-1" strike="noStrike">
                <a:solidFill>
                  <a:srgbClr val="006666"/>
                </a:solidFill>
                <a:latin typeface="Arial"/>
              </a:rPr>
              <a:t>unsafe</a:t>
            </a: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Kompilacja kodu z przełącznikiem /unsafe powoduję dodanie flagi pozwalającej środowisku uruchomieniowemu CLR na ominięcie weryfikacji ko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71640" y="4149720"/>
            <a:ext cx="7561080" cy="2448000"/>
          </a:xfrm>
          <a:prstGeom prst="roundRect">
            <a:avLst>
              <a:gd name="adj" fmla="val 76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Courier New"/>
              </a:rPr>
              <a:t>using System.Security.Permissions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Courier New"/>
              </a:rPr>
              <a:t>[assembly: SecurityPermission(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80808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80808"/>
                </a:solidFill>
                <a:latin typeface="Courier New"/>
              </a:rPr>
              <a:t>SecurityAction.RequestMinimum,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80808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80808"/>
                </a:solidFill>
                <a:latin typeface="Courier New"/>
              </a:rPr>
              <a:t>Flags=SecurityPermissionFlag.SkipVerification)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Courier New"/>
              </a:rPr>
              <a:t> </a:t>
            </a:r>
            <a:r>
              <a:rPr b="1" lang="pl-PL" sz="1800" spc="-1" strike="noStrike">
                <a:solidFill>
                  <a:srgbClr val="080808"/>
                </a:solidFill>
                <a:latin typeface="Courier New"/>
              </a:rPr>
              <a:t>unsafe{ ... 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Środowisko w pełni zaufane (</a:t>
            </a:r>
            <a:r>
              <a:rPr b="1" i="1" lang="pl-PL" sz="3200" spc="-1" strike="noStrike">
                <a:solidFill>
                  <a:srgbClr val="006666"/>
                </a:solidFill>
                <a:latin typeface="Arial"/>
              </a:rPr>
              <a:t>unsafe</a:t>
            </a: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Możliwość wykorzystania kodu „</a:t>
            </a: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unsafe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” daje wiele możliwości, ale powoduje wiele zagrożeń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Wskaźniki umożliwiają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Dostęp do prywatnych pól i metod obiektó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mazanie” po pamięc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rzeczytanie pamięci całego proces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rzepełnienie bufora (</a:t>
            </a: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buffer overflow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Biblioteki .NET Framework wykorzystują wskaźnik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Środowisko w pełni zaufa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Czy prywatne pola i metody są naprawdę prywat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Środowisko „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FullTrust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” + refleks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Demonstrac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Podpisywanie ko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Uruchamianie aplikacji w środowisku 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Code Access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.NET vs Ja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Podpisywanie ko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Uruchamianie aplikacji w środowisku 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Code Access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.NET vs Ja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orównanie bezpieczeństwa platform Java i .NE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10920" y="2349360"/>
            <a:ext cx="294156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ziury znalezione w systemie zabezpieczeń wirtualnej maszyny Javy (od roku 1996) oraz .NET-u (od roku 2002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600360" y="2565360"/>
            <a:ext cx="5543640" cy="3303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Java vs .NET</a:t>
            </a:r>
            <a:br>
              <a:rPr sz="3600"/>
            </a:br>
            <a:r>
              <a:rPr b="1" lang="pl-PL" sz="2400" spc="-1" strike="noStrike">
                <a:solidFill>
                  <a:srgbClr val="006666"/>
                </a:solidFill>
                <a:latin typeface="Arial"/>
              </a:rPr>
              <a:t>Architektura systemu zabezpieczeń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258920" y="2403360"/>
            <a:ext cx="7129440" cy="4454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Java vs .NET</a:t>
            </a:r>
            <a:br>
              <a:rPr sz="3600"/>
            </a:br>
            <a:r>
              <a:rPr b="1" lang="pl-PL" sz="2400" spc="-1" strike="noStrike">
                <a:solidFill>
                  <a:srgbClr val="006666"/>
                </a:solidFill>
                <a:latin typeface="Arial"/>
              </a:rPr>
              <a:t>JVML vs MSIL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Za bezpieczeństwo kodu na niskim poziomie w obu platformach odpowiada weryfika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Większa złożoność instrukcji bytecodu JAVY utrudnia utworzenie bezbłędnego weryfikato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Przykłady kłopotliwych instrukcj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wywoływanie funkcji: </a:t>
            </a:r>
            <a:r>
              <a:rPr b="1" lang="pl-PL" sz="2000" spc="-1" strike="noStrike">
                <a:solidFill>
                  <a:srgbClr val="003366"/>
                </a:solidFill>
                <a:latin typeface="Courier New"/>
              </a:rPr>
              <a:t>invokespeci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tworzenie obiektów: new, dup, invokespeci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obsługa wyjątków: </a:t>
            </a:r>
            <a:r>
              <a:rPr b="1" lang="pl-PL" sz="2000" spc="-1" strike="noStrike">
                <a:solidFill>
                  <a:srgbClr val="003366"/>
                </a:solidFill>
                <a:latin typeface="Courier New"/>
              </a:rPr>
              <a:t>js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Java vs .NET</a:t>
            </a:r>
            <a:br>
              <a:rPr sz="3600"/>
            </a:br>
            <a:r>
              <a:rPr b="1" lang="pl-PL" sz="2400" spc="-1" strike="noStrike">
                <a:solidFill>
                  <a:srgbClr val="006666"/>
                </a:solidFill>
                <a:latin typeface="Arial"/>
              </a:rPr>
              <a:t>Pozwolenia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Obie platformy korzystają z polis bezpieczeństw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.NET posiada więcej, bardziej szczegółowych pozwoleń (</a:t>
            </a: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permissions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971640" y="4365720"/>
          <a:ext cx="7343640" cy="2251080"/>
        </p:xfrm>
        <a:graphic>
          <a:graphicData uri="http://schemas.openxmlformats.org/drawingml/2006/table">
            <a:tbl>
              <a:tblPr/>
              <a:tblGrid>
                <a:gridCol w="2448000"/>
                <a:gridCol w="2447640"/>
                <a:gridCol w="244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v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NE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zytanie, pisanie, wykonanie, usuwanie plików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ilePermiss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ileIOPermission,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curityPermiss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opisanie (</a:t>
                      </a:r>
                      <a:r>
                        <a:rPr b="0" i="1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pend</a:t>
                      </a: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ostęp do informacji na ścieżc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rak oddzielnych pozwoleń (append=write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ileIOPermissionAcces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Append, PathDiscovery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Java vs .NET</a:t>
            </a:r>
            <a:br>
              <a:rPr sz="3200"/>
            </a:br>
            <a:r>
              <a:rPr b="1" lang="pl-PL" sz="2000" spc="-1" strike="noStrike">
                <a:solidFill>
                  <a:srgbClr val="006666"/>
                </a:solidFill>
                <a:latin typeface="Arial"/>
              </a:rPr>
              <a:t>Zasady zabezpieczeń w czasie wykonywania (</a:t>
            </a:r>
            <a:r>
              <a:rPr b="1" i="1" lang="pl-PL" sz="2000" spc="-1" strike="noStrike">
                <a:solidFill>
                  <a:srgbClr val="006666"/>
                </a:solidFill>
                <a:latin typeface="Arial"/>
              </a:rPr>
              <a:t>policies</a:t>
            </a:r>
            <a:r>
              <a:rPr b="1" lang="pl-PL" sz="20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ba środowiska umożliwiają modyfikację zasad poprzez tworzenie nowych pol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258920" y="3573360"/>
          <a:ext cx="6985080" cy="207972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VA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NET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6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zyznana zostaje sumę uprawnień z wszystkich poli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zyznana zostaje część wspólną uprawnień z wszystkich poli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Java vs .NET</a:t>
            </a:r>
            <a:r>
              <a:rPr b="1" lang="pl-PL" sz="24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400"/>
            </a:br>
            <a:r>
              <a:rPr b="1" lang="pl-PL" sz="2000" spc="-1" strike="noStrike">
                <a:solidFill>
                  <a:srgbClr val="006666"/>
                </a:solidFill>
                <a:latin typeface="Arial"/>
              </a:rPr>
              <a:t>Ładowanie początkowe (</a:t>
            </a:r>
            <a:r>
              <a:rPr b="1" i="1" lang="pl-PL" sz="2000" spc="-1" strike="noStrike">
                <a:solidFill>
                  <a:srgbClr val="006666"/>
                </a:solidFill>
                <a:latin typeface="Arial"/>
              </a:rPr>
              <a:t>Bootstrapping</a:t>
            </a:r>
            <a:r>
              <a:rPr b="1" lang="pl-PL" sz="20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 używa zaufanego katalogu CLASSP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NET ufa silnie podpisanym podzespołom z GAC-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Java vs .NET</a:t>
            </a:r>
            <a:r>
              <a:rPr b="1" lang="pl-PL" sz="28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800"/>
            </a:br>
            <a:r>
              <a:rPr b="0" lang="pl-PL" sz="2400" spc="-1" strike="noStrike">
                <a:solidFill>
                  <a:srgbClr val="006666"/>
                </a:solidFill>
                <a:latin typeface="Arial"/>
              </a:rPr>
              <a:t>Wymuszenie uprawnień </a:t>
            </a:r>
            <a:r>
              <a:rPr b="1" lang="pl-PL" sz="24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0" i="1" lang="pl-PL" sz="2400" spc="-1" strike="noStrike">
                <a:solidFill>
                  <a:srgbClr val="006666"/>
                </a:solidFill>
                <a:latin typeface="Arial"/>
              </a:rPr>
              <a:t>Policy enforcement</a:t>
            </a:r>
            <a:r>
              <a:rPr b="0" lang="pl-PL" sz="24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Java pozwala na zmianę obiektu kontrolującego bezpieczeństwo </a:t>
            </a:r>
            <a:br>
              <a:rPr sz="2800"/>
            </a:b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(można zrobić tak: securityManager = null;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.NET nie pozwala na używanie własnych menadżerów bezpieczeństw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Oba środowiska używają operacji StackWalk aby sprawdzić uprawnienia wszystkich wywołań na stos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Java vs .NET</a:t>
            </a:r>
            <a:r>
              <a:rPr b="1" lang="pl-PL" sz="28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800"/>
            </a:br>
            <a:r>
              <a:rPr b="0" lang="pl-PL" sz="2400" spc="-1" strike="noStrike">
                <a:solidFill>
                  <a:srgbClr val="006666"/>
                </a:solidFill>
                <a:latin typeface="Arial"/>
              </a:rPr>
              <a:t>Wnioski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 i .NET mają podobne cele bezpieczeństwa oraz mechanizmy zabezpieczają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NET skorzystał z doświadczeń Jav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 utrzymuje kompatybilność z wcześniejszymi źle zaprojektowanymi wersjam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dsumowan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Podpisywanie ko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Uruchamianie aplikacji w środowisku 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Code Access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.NET vs Ja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dpisywanie kod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W technologii COM używane są identyfikatory GUID (</a:t>
            </a: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Globally Unique IDentifier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) do nazywania  klas, interfejsów, bibliotek typów, it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Wszystkie identyfikatory GUID były zapamiętywane w rejestrze co powodowało różne problem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ZIĘKUJEMY ZA UWAGĘ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3366"/>
                </a:solidFill>
                <a:latin typeface="Arial"/>
              </a:rPr>
              <a:t>Pytania ??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Zapraszamy na spotka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Grupy.NET UW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ff"/>
                </a:solidFill>
                <a:latin typeface="Arial"/>
              </a:rPr>
              <a:t>www.codeguru.p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012000" y="5013360"/>
            <a:ext cx="2808000" cy="1373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dpisywanie kod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W platformie .NET do zapewnienia globalnie unikalnej nazwy podzespołu używana jest silna nazwa (</a:t>
            </a: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strong name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Zamiast losowego numeru GUID o długości 128 bit (16 bajtów) wykorzystano algorytm RSA o sile 1024 bitów (128 bajtów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W .NET Framework 2.0 możliwość generacji kluczy o długości do 16384 bitó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dpisywanie kodu 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(Kryptografia asymetryczna)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ucze RSA generowane są w parach – klucz prywatny i klucz publiczn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ucz prywatny powinien być najbardziej strzeżoną tajemnic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ucz publiczny może być dystrybuowany bez oba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ie jest możliwe „odgadnięcie” klucza prywatnego na podstawie klucza publiczneg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ne zaszyfrowane kluczem publicznym mogą być odszyfrowane tylko za pomocą klucza prywatneg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ne zaszyfrowane kluczem prywatnym mogą być odszyfrowane tylko za pomocą klucza publiczneg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dpisywanie kod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alety podpisania podzespołu silną nazwą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warancja unikalnej nazw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ntrola wersj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ntrola integralnośc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ces podpisywania podzespoł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932000" y="2852640"/>
            <a:ext cx="3887640" cy="33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cb4"/>
                </a:solidFill>
                <a:latin typeface="Arial"/>
              </a:rPr>
              <a:t>Obliczanie wartości funkcji haszującej podzespołu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cb4"/>
                </a:solidFill>
                <a:latin typeface="Arial"/>
              </a:rPr>
              <a:t>Użycie </a:t>
            </a:r>
            <a:r>
              <a:rPr b="0" lang="pl-PL" sz="2000" spc="-1" strike="noStrike" u="sng">
                <a:solidFill>
                  <a:srgbClr val="003cb4"/>
                </a:solidFill>
                <a:uFillTx/>
                <a:latin typeface="Arial"/>
              </a:rPr>
              <a:t>klucza prywatnego</a:t>
            </a:r>
            <a:r>
              <a:rPr b="0" lang="pl-PL" sz="2000" spc="-1" strike="noStrike">
                <a:solidFill>
                  <a:srgbClr val="003cb4"/>
                </a:solidFill>
                <a:latin typeface="Arial"/>
              </a:rPr>
              <a:t> do zaszyfrowania wartości funkcji haszującej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cb4"/>
                </a:solidFill>
                <a:latin typeface="Arial"/>
              </a:rPr>
              <a:t>Dołączenie zaszyfrowanej wartości do podzespołu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cb4"/>
                </a:solidFill>
                <a:latin typeface="Arial"/>
              </a:rPr>
              <a:t>Dołączenie do podzespołu </a:t>
            </a:r>
            <a:r>
              <a:rPr b="0" lang="pl-PL" sz="2000" spc="-1" strike="noStrike" u="sng">
                <a:solidFill>
                  <a:srgbClr val="003cb4"/>
                </a:solidFill>
                <a:uFillTx/>
                <a:latin typeface="Arial"/>
              </a:rPr>
              <a:t>klucza publicznego</a:t>
            </a:r>
            <a:r>
              <a:rPr b="0" lang="pl-PL" sz="2000" spc="-1" strike="noStrike">
                <a:solidFill>
                  <a:srgbClr val="003cb4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71640" y="2421000"/>
            <a:ext cx="2303280" cy="1079280"/>
            <a:chOff x="971640" y="2421000"/>
            <a:chExt cx="2303280" cy="1079280"/>
          </a:xfrm>
        </p:grpSpPr>
        <p:sp>
          <p:nvSpPr>
            <p:cNvPr id="116" name=""/>
            <p:cNvSpPr/>
            <p:nvPr/>
          </p:nvSpPr>
          <p:spPr>
            <a:xfrm>
              <a:off x="971640" y="2421000"/>
              <a:ext cx="2303280" cy="107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87280" y="2924280"/>
              <a:ext cx="187128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33cc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Metadan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971640" y="4221000"/>
            <a:ext cx="2303280" cy="2017800"/>
            <a:chOff x="971640" y="4221000"/>
            <a:chExt cx="2303280" cy="2017800"/>
          </a:xfrm>
        </p:grpSpPr>
        <p:sp>
          <p:nvSpPr>
            <p:cNvPr id="119" name=""/>
            <p:cNvSpPr/>
            <p:nvPr/>
          </p:nvSpPr>
          <p:spPr>
            <a:xfrm>
              <a:off x="971640" y="4221000"/>
              <a:ext cx="2303280" cy="201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87280" y="4724280"/>
              <a:ext cx="1873080" cy="93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33cc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Metadan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87280" y="5805360"/>
              <a:ext cx="1873080" cy="28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Hash valu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03280" y="5229360"/>
              <a:ext cx="1439640" cy="287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Public key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 rot="434400">
            <a:off x="3348000" y="2924280"/>
            <a:ext cx="1511280" cy="576000"/>
          </a:xfrm>
          <a:prstGeom prst="rightArrow">
            <a:avLst>
              <a:gd name="adj1" fmla="val 50000"/>
              <a:gd name="adj2" fmla="val 6559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9750600">
            <a:off x="3347640" y="5083920"/>
            <a:ext cx="1511280" cy="576360"/>
          </a:xfrm>
          <a:prstGeom prst="rightArrow">
            <a:avLst>
              <a:gd name="adj1" fmla="val 50000"/>
              <a:gd name="adj2" fmla="val 6555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2:14:24Z</dcterms:created>
  <dc:creator>qbens0</dc:creator>
  <dc:description/>
  <dc:language>en-US</dc:language>
  <cp:lastModifiedBy>Piotr Jakóbczyk</cp:lastModifiedBy>
  <dcterms:modified xsi:type="dcterms:W3CDTF">2005-10-19T10:06:44Z</dcterms:modified>
  <cp:revision>22</cp:revision>
  <dc:subject/>
  <dc:title>Slide 1</dc:title>
</cp:coreProperties>
</file>