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23F-3F46-43AE-9ED4-55030E0E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54D-54FE-460C-9EC5-AD2AD3B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C69-992C-45E8-8DEE-BACE7823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D16-2842-41B7-834C-7FE82822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F2A1-5B66-4F2C-B1F4-69A6D942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803C-7C3C-40F5-8F12-B8DE2B16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009-D3F6-428B-ADC3-A6F32A2E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D0AD-169D-490A-92A0-4F0DD3D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53FA-68F3-4C4C-BF1A-68721B1B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E1AF-482C-4574-A4EB-AF8A9990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0C6A-FDF2-44DF-88E8-4C391D80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84A-E39D-48EF-BC91-A93699AC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D499-2DF8-46F3-B884-152F523F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F554-C214-497D-9A92-6B1716E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FCCB-E412-4FAD-9516-3DF14D89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A5B1-63C2-4BDB-A7EF-410D2610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D515-65FE-4E34-87B3-4BF5AB8A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464-F87E-45D1-B4D7-5F7E4115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40C-40B3-4828-8378-36A697A6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BAE-3865-44DA-A7F9-9E7152B9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FC6-520F-498F-81C0-8C9A67F1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2AE-1546-48BE-8C96-33C8A7A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14D-7CED-41CC-AFA9-BEB858A6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CBD-9D1C-409E-9C08-6295A6EA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6863-73DB-4CA3-BF3E-18813CB017F4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04AE-E4CF-4E30-819F-6938FE8F0E79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ezpieczeństwo platformy 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160" y="2923920"/>
            <a:ext cx="3786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ian Ciur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otr Jakóbczyk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72360" y="5300640"/>
            <a:ext cx="2087280" cy="1020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0"/>
            <a:ext cx="45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99"/>
                </a:solidFill>
                <a:latin typeface="Courier New"/>
              </a:rPr>
              <a:t>Zawansowane techniki programowania .N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Courier New"/>
              </a:rPr>
              <a:t>Uniwersytet Wrocławski 2005/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Courier New"/>
              </a:rPr>
              <a:t>11 października 200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3366"/>
                </a:solidFill>
                <a:uFillTx/>
                <a:latin typeface="Arial"/>
              </a:rPr>
              <a:t>Demonstr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Skrakowanie” nie zabezpieczonego podzespoł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bezpieczenie podzespołu za pomocą silnej nazw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ygenerowanie kluczy RSA: sn –k &lt;filena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odpisanie podzespołu za pomocą atrybutów i ponowna kompilacj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róba „skrakowania” zabezpieczonego podzespołu (nieudana </a:t>
            </a:r>
            <a:r>
              <a:rPr b="0" lang="pl-P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Podpisywanie opóźnione 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6666"/>
                </a:solidFill>
                <a:latin typeface="Arial"/>
              </a:rPr>
              <a:t>delay signing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zwala zabezpieczyć klucz prywat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Zmusza CLR do traktowania „częściowo” podpisanego podzespołu tak jak podzespół w pełni podpis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yekstrahowanie klucza publicz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Ustawienie atrybut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Rejestracja komponentu w syste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860640"/>
            <a:ext cx="7561080" cy="5050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sn –p klucz.snk klucz_publiczny.sn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4941720"/>
            <a:ext cx="7561080" cy="503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[</a:t>
            </a: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assembly: AssemblyDelaySign(true)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6021360"/>
            <a:ext cx="7561080" cy="503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sn –Vr assembly.dll, bc195845c354634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br>
              <a:rPr sz="36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Global Assembly Cach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C – Globalne repozytorium podzespołó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żna tam umieszczać tylko podzespoły posiadające silną nazw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ktowane jest jako repozytorium zaufane – teoretycznie haker z uprawnieniami administratora może podmienić znajdujący się tam podzespó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br>
              <a:rPr sz="36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niosk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= cyfrowa sygnatur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stawowa opcja jeśli chodzi o kontrolę wersji komponentó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Gwarantuje tożsamość podzespoł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nie wymaga udziału firm trzeci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nie wspiera infrastruktury klucza publicznego (PK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ruchamianie aplikacji w środowisku .NE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Środowisko uruchomieniowe CL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ogramy są kompilowane do MSIL-a oraz metadanych opisujących typ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dzespoły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assembly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 są ładowane do pamięci w momencie uruchomienia apl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ompilacja do kodu natywnego na poziomie metod przez kompilator JIT (just-in-tim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869000"/>
            <a:ext cx="1656000" cy="1008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5229360"/>
            <a:ext cx="172728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C#  V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emerle  J#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5229360"/>
            <a:ext cx="172692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MS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+ metad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5229360"/>
            <a:ext cx="172872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atyw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5300640"/>
            <a:ext cx="71892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5300640"/>
            <a:ext cx="71928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 jeszcze dzieje się podczas uruchamiania aplikacji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Częścią kompilacji JIT jest weryfik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eryfikacja MSIL oraz metadany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oprawność wygenerowanego ko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Dostęp do pamięci i metod tylko poprzez poprawnie zdefiniowane typ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Zgodność typów (typy referencyjne wskazują na obiekty odpowiednich typó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ykonywanie tylko zdefiniowanych operacji na obiektach danego typ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Implementacja interfejsó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Kontrola dostępu do pól i metod (prywatne, publiczn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ylko kod zarządzany podlega weryf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ryfikacja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dział kodu MS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Invalid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nie da się wygenerować kodu natyw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Valid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istnieje kod natywn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Type-safe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– spełnia wszystkie wymagania typow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Verifiable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– dodatkowe restrykcj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Co jeśli podczas kompilacji JIT metoda nie przejdzie pomyślnie weryfikacji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c się nie dzieje jeśli podzespół ma uprawnienia do pominięcia weryf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 przeciwnym wypadku generowany jest kod rzucający wyjąt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eryfikacja metadanych podzespołów MS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de Access Security (C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Bezpieczeństwo oparte na uprawnieniach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echanizm C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zwala na ustalenie uprawnień dla określonych podzespołów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Uprawnienia te mogą być bardzo precyzyjnie dobrane w zależności m.in. o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chodzenia ko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silnego podpis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artości funkcji haszujące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świadect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Świadectwa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Evidences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Informacje o podzespole przedstawiane środowisku uruchomieniowemu CLR podczas jego ładow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rzykłady dowodów przedstawianych przez aplikacj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Zon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URL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Hash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trong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i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Application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Directory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ublisher Certifica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zestawy uprawnie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estawy uprawnień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ermission Set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Definiują dostęp do różnych zasobów syste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Rodzaje zdefiniowanych zestawów uprawnień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calIntr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veryt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Tru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łasne zestawy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grupy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Grupy kodu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Code Group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iąże świadectwo z zestawem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Efektywny zestaw uprawnień jest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mą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uprawnień grup kodu, do których należy dana aplik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16000" y="4076640"/>
            <a:ext cx="7487640" cy="2448360"/>
            <a:chOff x="1116000" y="4076640"/>
            <a:chExt cx="7487640" cy="2448360"/>
          </a:xfrm>
        </p:grpSpPr>
        <p:cxnSp>
          <p:nvCxnSpPr>
            <p:cNvPr id="161" name="_s18461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294880" y="5084280"/>
              <a:ext cx="350640" cy="1222200"/>
            </a:xfrm>
            <a:prstGeom prst="bentConnector3">
              <a:avLst>
                <a:gd name="adj1" fmla="val 32682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4" name="_s18459"/>
            <p:cNvCxnSpPr>
              <a:stCxn id="165" idx="0"/>
              <a:endCxn id="163" idx="2"/>
            </p:cNvCxnSpPr>
            <p:nvPr/>
          </p:nvCxnSpPr>
          <p:spPr>
            <a:xfrm flipH="1" flipV="1" rot="5400000">
              <a:off x="4093560" y="5104800"/>
              <a:ext cx="350640" cy="1181160"/>
            </a:xfrm>
            <a:prstGeom prst="bentConnector3">
              <a:avLst>
                <a:gd name="adj1" fmla="val 32682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6" name="_s1844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979240" y="3507840"/>
              <a:ext cx="345240" cy="2585520"/>
            </a:xfrm>
            <a:prstGeom prst="bentConnector3">
              <a:avLst>
                <a:gd name="adj1" fmla="val 33089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9" name="_s18443"/>
            <p:cNvCxnSpPr>
              <a:stCxn id="163" idx="0"/>
              <a:endCxn id="168" idx="2"/>
            </p:cNvCxnSpPr>
            <p:nvPr/>
          </p:nvCxnSpPr>
          <p:spPr>
            <a:xfrm flipV="1">
              <a:off x="4859640" y="4628160"/>
              <a:ext cx="3600" cy="345240"/>
            </a:xfrm>
            <a:prstGeom prst="bentConnector2">
              <a:avLst/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70" name="_s18442"/>
            <p:cNvCxnSpPr>
              <a:stCxn id="171" idx="0"/>
              <a:endCxn id="168" idx="2"/>
            </p:cNvCxnSpPr>
            <p:nvPr/>
          </p:nvCxnSpPr>
          <p:spPr>
            <a:xfrm flipH="1" flipV="1" rot="5400000">
              <a:off x="3394800" y="3508560"/>
              <a:ext cx="345240" cy="2584800"/>
            </a:xfrm>
            <a:prstGeom prst="bentConnector3">
              <a:avLst>
                <a:gd name="adj1" fmla="val 33089"/>
              </a:avLst>
            </a:prstGeom>
            <a:ln w="28440">
              <a:solidFill>
                <a:srgbClr val="145151"/>
              </a:solidFill>
              <a:miter/>
            </a:ln>
          </p:spPr>
        </p:cxnSp>
        <p:sp>
          <p:nvSpPr>
            <p:cNvPr id="168" name="_s18438"/>
            <p:cNvSpPr/>
            <p:nvPr/>
          </p:nvSpPr>
          <p:spPr>
            <a:xfrm>
              <a:off x="3700080" y="407664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85e1e1"/>
            </a:solidFill>
            <a:ln w="3816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All Cod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Nothing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18439"/>
            <p:cNvSpPr/>
            <p:nvPr/>
          </p:nvSpPr>
          <p:spPr>
            <a:xfrm>
              <a:off x="111600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My Computer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FullTrus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_s18440"/>
            <p:cNvSpPr/>
            <p:nvPr/>
          </p:nvSpPr>
          <p:spPr>
            <a:xfrm>
              <a:off x="370008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_s18441"/>
            <p:cNvSpPr/>
            <p:nvPr/>
          </p:nvSpPr>
          <p:spPr>
            <a:xfrm>
              <a:off x="628488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Intra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LocalIntra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_s18458"/>
            <p:cNvSpPr/>
            <p:nvPr/>
          </p:nvSpPr>
          <p:spPr>
            <a:xfrm>
              <a:off x="2626560" y="5870520"/>
              <a:ext cx="2101320" cy="654480"/>
            </a:xfrm>
            <a:prstGeom prst="roundRect">
              <a:avLst>
                <a:gd name="adj" fmla="val 16667"/>
              </a:avLst>
            </a:prstGeom>
            <a:solidFill>
              <a:srgbClr val="2fbcbc"/>
            </a:solidFill>
            <a:ln w="32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URL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www.microsoft.com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MSPS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18460"/>
            <p:cNvSpPr/>
            <p:nvPr/>
          </p:nvSpPr>
          <p:spPr>
            <a:xfrm>
              <a:off x="4993920" y="5870520"/>
              <a:ext cx="2170800" cy="654480"/>
            </a:xfrm>
            <a:prstGeom prst="roundRect">
              <a:avLst>
                <a:gd name="adj" fmla="val 16667"/>
              </a:avLst>
            </a:prstGeom>
            <a:solidFill>
              <a:srgbClr val="2fbcbc"/>
            </a:solidFill>
            <a:ln w="32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URL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www.ii.uni.wroc.pl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IIUniWrocPS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poziomy zabezpiecze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ziomy zabezpieczeń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ecurity Policy Level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ach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Application Dom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Efektywny zestaw uprawnień jest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częścią wspólną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uprawnień wynikających z poszczególnych poziomó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zarządzanie polis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sola MM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stęp także z poziomu narzędzi administracyjnych panelu sterow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onstr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293688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ładowanie podzespoł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 się dzieje po załadowaniu podzespołu przez CL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Ładowanie podzespoł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ieranie świadectw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Ładowanie polis bezpieczeństw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zyznawanie uprawnie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yfikacja kodu (podczas kompilacji JI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ykonanie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AS – operacja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Stack Wal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05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Sprawdzanie poziomu uprawnień każdej metody na stosie wywoła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pobiega atakom typu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„luring attack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peracja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ermission demand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2421000"/>
            <a:ext cx="3816360" cy="424800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248000"/>
              <a:gd name="textAreaBottom" fmla="*/ 4061880 h 424800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The Call Stac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720" y="2997360"/>
            <a:ext cx="302400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ssembly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onl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294080"/>
            <a:ext cx="244800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ssembly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+ WriteFi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5589720"/>
            <a:ext cx="338436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NET Framework Assemb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+ WriteFi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443640" y="3718080"/>
            <a:ext cx="1655640" cy="576000"/>
            <a:chOff x="6443640" y="3718080"/>
            <a:chExt cx="1655640" cy="576000"/>
          </a:xfrm>
        </p:grpSpPr>
        <p:sp>
          <p:nvSpPr>
            <p:cNvPr id="186" name=""/>
            <p:cNvSpPr/>
            <p:nvPr/>
          </p:nvSpPr>
          <p:spPr>
            <a:xfrm>
              <a:off x="7236000" y="3718080"/>
              <a:ext cx="0" cy="57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3640" y="3862080"/>
              <a:ext cx="1655640" cy="286920"/>
            </a:xfrm>
            <a:prstGeom prst="flowChartTerminator">
              <a:avLst/>
            </a:prstGeom>
            <a:solidFill>
              <a:srgbClr val="99c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riteFi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443640" y="5013360"/>
            <a:ext cx="1655640" cy="576360"/>
            <a:chOff x="6443640" y="5013360"/>
            <a:chExt cx="1655640" cy="576360"/>
          </a:xfrm>
        </p:grpSpPr>
        <p:sp>
          <p:nvSpPr>
            <p:cNvPr id="189" name=""/>
            <p:cNvSpPr/>
            <p:nvPr/>
          </p:nvSpPr>
          <p:spPr>
            <a:xfrm>
              <a:off x="7236000" y="5013360"/>
              <a:ext cx="0" cy="576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3640" y="5158080"/>
              <a:ext cx="1655640" cy="287280"/>
            </a:xfrm>
            <a:prstGeom prst="flowChartTerminator">
              <a:avLst/>
            </a:prstGeom>
            <a:solidFill>
              <a:srgbClr val="99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riteFi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3717720"/>
            <a:ext cx="1366920" cy="1871640"/>
            <a:chOff x="4643280" y="3717720"/>
            <a:chExt cx="1366920" cy="1871640"/>
          </a:xfrm>
        </p:grpSpPr>
        <p:sp>
          <p:nvSpPr>
            <p:cNvPr id="192" name=""/>
            <p:cNvSpPr/>
            <p:nvPr/>
          </p:nvSpPr>
          <p:spPr>
            <a:xfrm flipV="1">
              <a:off x="5724360" y="3717720"/>
              <a:ext cx="0" cy="187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3280" y="4365720"/>
              <a:ext cx="1366920" cy="574560"/>
            </a:xfrm>
            <a:prstGeom prst="flowChartTerminator">
              <a:avLst/>
            </a:prstGeom>
            <a:solidFill>
              <a:srgbClr val="33cc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ermiss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643280" y="5157720"/>
            <a:ext cx="2449800" cy="1557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Excep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ustalanie uprawnieni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Framework umożliwia programiście sterowanie uprawnieniami kodu na dwa sposob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Imperatyw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przez wywoływanie odpowiednich met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eklaratyw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przez umieszczanie odpowiednich atrybutów przed metodami oraz klasa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impe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Interfejs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IPermi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Operacje na zestawach uprawnień: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Union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Intersect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IsSubsetO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lasy dziedziczące z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CodeAccessPermission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Przykłady: </a:t>
            </a:r>
            <a:br>
              <a:rPr sz="1600"/>
            </a:b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FileIOPermission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SecurityPermission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flectionPermis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strzeń nazw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System.Security.Permi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ażniejsze operacj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Demand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Den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PermitOnl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Assert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Den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PermitOnl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A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impe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2421000"/>
            <a:ext cx="7344000" cy="4103640"/>
          </a:xfrm>
          <a:prstGeom prst="roundRect">
            <a:avLst>
              <a:gd name="adj" fmla="val 32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tatic void Main(string[] arg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 p = new FileIOPermission(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Access.Write, "D:\\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p.Asser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treamWriter sw =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new StreamWriter("D:\\test.txt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w.WriteLine("TEST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w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.RevertAsser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naczenie bezpieczeńst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Bezpieczeństwo w systemie Wind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Każdy proces otrzymuję własną tożsamość i uprawnienia oparte o kontekst danego użytkow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odel ten nie jest efektywny z wielu względó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Złośliwy” kod może łatwo obejść ograniczenia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e mamy możliwości kontroli całego ko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Różne kawałki kodu pochodzą ze środowisk o różnych poziomach uprzywilejowa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Atrybuty (klasy) dziedziczące z </a:t>
            </a:r>
            <a:r>
              <a:rPr b="1" lang="pl-PL" sz="2400" spc="-1" strike="noStrike">
                <a:solidFill>
                  <a:srgbClr val="003366"/>
                </a:solidFill>
                <a:latin typeface="Courier New"/>
              </a:rPr>
              <a:t>CodeAccessSecurityAttribu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rzykłady: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FileIOPermissionAttribute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ReflectionPermissionAttribute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PermissionSetAttribu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eklaracje na różnych poziom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dzespół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assembly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las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class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etod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method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 zależności od działania inny moment sprawdzenia uprawnie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042920" y="2637000"/>
          <a:ext cx="7693200" cy="3456000"/>
        </p:xfrm>
        <a:graphic>
          <a:graphicData uri="http://schemas.openxmlformats.org/drawingml/2006/table">
            <a:tbl>
              <a:tblPr/>
              <a:tblGrid>
                <a:gridCol w="3097440"/>
                <a:gridCol w="2376360"/>
                <a:gridCol w="221940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claration of security 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me of 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rgets support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Link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ust-in-time compil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Inheritance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ad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Assert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n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PermitOnl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Minimum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Optional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Refuse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2421000"/>
            <a:ext cx="7344000" cy="4176720"/>
          </a:xfrm>
          <a:prstGeom prst="roundRect">
            <a:avLst>
              <a:gd name="adj" fmla="val 304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Assert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lass Class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Metoda1(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riteFile("test1.txt"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Deny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Metoda2(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riteFile("test2.txt"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Demand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WriteFile(string f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// zapis na dysk D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CAS – atrybuty 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Permission Reques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Minimum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Jeżeli podzespół nie ma wyspecyfikowanych uprawnień nie ładuj go i wyrzuć wyjątek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Optiona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Załaduj podzespół mimo, że nie posiada on wyspecyfikowanych tutaj uprawnień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Refuse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Nie przyznawaj podzespołowi tych uprawnień mimo, że wynikają one z ustawień bezpieczeństwa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4508640"/>
            <a:ext cx="7344000" cy="2087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[assembly:UIPermissionAttribut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80808"/>
                </a:solidFill>
                <a:latin typeface="Courier New"/>
              </a:rPr>
              <a:t>SecurityAction.RequestMinimum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Window=UIPermissionWindow.SafeSubWindows)]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[assembly:FileIOPermissionAttribu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80808"/>
                </a:solidFill>
                <a:latin typeface="Courier New"/>
              </a:rPr>
              <a:t>SecurityAction.RequestOptional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,</a:t>
            </a: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All="C:\\")]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de Access Secur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DEMO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AS -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AllowPartiallyTrustedCal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myślnie podzespoły podpisane silną nazwą mogą być wywoływane wyłącznie przez podzespoły z uprawnieniami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danie do podzespołu atrybutu APTC umożliwia użycie podzespołu przez częściowo zaufane podzespoł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danie atrybutu APTC powoduje nie dodawanie domyślnie sprawdzenia uprawnień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w kontekście uprawnień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LinkDemand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5589720"/>
            <a:ext cx="7561440" cy="86184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[assembly: AllowPartiallyTrustedCaller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Środowisko w pełni zauf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 Trust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iększość kodu zarządzanego uruchamiana jest w trybie „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Implikacje tego faktu mogą być bardzo </a:t>
            </a:r>
            <a:r>
              <a:rPr b="1" lang="pl-PL" sz="2000" spc="-1" strike="noStrike">
                <a:solidFill>
                  <a:srgbClr val="ff3300"/>
                </a:solidFill>
                <a:latin typeface="Arial"/>
              </a:rPr>
              <a:t>niebezpiecz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laczego uruchamiamy kod z upawnieniami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rak możliwości wołania kodu niezarządza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rak możliwości wołania komponentów 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emożność użycia ODBC lub Ole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Spora ilość bibliotek .NET nie posiada atrybutu APTC 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(AllowPartiallyTrustedCall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Środowisko w pełni zaufane (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unsafe</a:t>
            </a: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Kompilacja kodu z przełącznikiem /unsafe powoduję dodanie flagi pozwalającej środowisku uruchomieniowemu CLR na ominięcie weryfikacji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4149720"/>
            <a:ext cx="7561080" cy="244800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using System.Security.Permissions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[assembly: SecurityPermission(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SecurityAction.RequestMinimum,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Flags=SecurityPermissionFlag.SkipVerification)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unsafe{ ...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Środowisko w pełni zaufane (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unsafe</a:t>
            </a: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Możliwość wykorzystania kodu „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unsafe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” daje wiele możliwości, ale powoduje wiele zagroże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skaźniki umożliwiaj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Dostęp do prywatnych pól i metod obiektó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azanie” po pamię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czytanie pamięci całego proces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pełnienie bufor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buffer overflow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Biblioteki .NET Framework wykorzystują wskaźni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Środowisko w pełni zauf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zy prywatne pola i metody są naprawdę prywat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Środowisko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+ refleks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Demonstrac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równanie bezpieczeństwa platform Java i .N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0920" y="2349360"/>
            <a:ext cx="2941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ziury znalezione w systemie zabezpieczeń wirtualnej maszyny Javy (od roku 1996) oraz .NET-u (od roku 2002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600360" y="2565360"/>
            <a:ext cx="5543640" cy="330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Architektura systemu zabezpieczeń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58920" y="2403360"/>
            <a:ext cx="7129440" cy="445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JVML vs MSI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 bezpieczeństwo kodu na niskim poziomie w obu platformach odpowiada weryfik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iększa złożoność instrukcji bytecodu JAVY utrudnia utworzenie bezbłędnego weryfikat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rzykłady kłopotliwych instrukcj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ywoływanie funkcji: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invokespe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worzenie obiektów: new, dup, invokespe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obsługa wyjątków: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js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Pozwoleni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bie platformy korzystają z polis bezpieczeńst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posiada więcej, bardziej szczegółowych pozwoleń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permissions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4365720"/>
          <a:ext cx="7343640" cy="225108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  <a:gridCol w="244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zytanie, pisanie, wykonanie, usuwanie plikó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Permi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IOPermission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Permi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pisanie (</a:t>
                      </a:r>
                      <a:r>
                        <a:rPr b="0" i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pend</a:t>
                      </a: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stęp do informacji na ścież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rak oddzielnych pozwoleń (append=writ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IOPermission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Append, PathDiscovery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2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Zasady zabezpieczeń w czasie wykonywania (</a:t>
            </a:r>
            <a:r>
              <a:rPr b="1" i="1" lang="pl-PL" sz="2000" spc="-1" strike="noStrike">
                <a:solidFill>
                  <a:srgbClr val="006666"/>
                </a:solidFill>
                <a:latin typeface="Arial"/>
              </a:rPr>
              <a:t>policies</a:t>
            </a: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a środowiska umożliwiają modyfikację zasad poprzez tworzenie nowych pol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258920" y="3573360"/>
          <a:ext cx="6985080" cy="207972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VA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zyznana zostaje sumę uprawnień z wszystkich poli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zyznana zostaje część wspólną uprawnień z wszystkich poli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Ładowanie początkowe (</a:t>
            </a:r>
            <a:r>
              <a:rPr b="1" i="1" lang="pl-PL" sz="2000" spc="-1" strike="noStrike">
                <a:solidFill>
                  <a:srgbClr val="006666"/>
                </a:solidFill>
                <a:latin typeface="Arial"/>
              </a:rPr>
              <a:t>Bootstrapping</a:t>
            </a: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żywa zaufanego katalogu CLASSP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NET ufa silnie podpisanym podzespołom z GAC-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Wymuszenie uprawnień </a:t>
            </a: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6666"/>
                </a:solidFill>
                <a:latin typeface="Arial"/>
              </a:rPr>
              <a:t>Policy enforcement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Java pozwala na zmianę obiektu kontrolującego bezpieczeństwo </a:t>
            </a: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(można zrobić tak: securityManager = null;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nie pozwala na używanie własnych menadżerów bezpieczeńst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ba środowiska używają operacji StackWalk aby sprawdzić uprawnienia wszystkich wywołań na stos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Wnioski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i .NET mają podobne cele bezpieczeństwa oraz mechanizmy zabezpieczają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NET skorzystał z doświadczeń J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trzymuje kompatybilność z wcześniejszymi źle zaprojektowanymi wersjam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sumowa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technologii COM używane są identyfikatory GUID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Globally Unique IDentifier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 do nazywania  klas, interfejsów, bibliotek typów, it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szystkie identyfikatory GUID były zapamiętywane w rejestrze co powodowało różne problem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ZIĘKUJEMY ZA UWAG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Arial"/>
              </a:rPr>
              <a:t>Pytania ??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Zapraszamy na spotk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Grupy.NET UW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ff"/>
                </a:solidFill>
                <a:latin typeface="Arial"/>
              </a:rPr>
              <a:t>www.codeguru.p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808000" cy="1373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platformie .NET do zapewnienia globalnie unikalnej nazwy podzespołu używana jest silna nazwa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trong name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Zamiast losowego numeru GUID o długości 128 bit (16 bajtów) wykorzystano algorytm RSA o sile 1024 bitów (128 bajtów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.NET Framework 2.0 możliwość generacji kluczy o długości do 16384 bitó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Kryptografia asymetryczna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e RSA generowane są w parach – klucz prywatny i klucz publiczn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 prywatny powinien być najbardziej strzeżoną tajemnic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 publiczny może być dystrybuowany bez oba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e jest możliwe „odgadnięcie” klucza prywatnego na podstawie klucza publicz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e zaszyfrowane kluczem publicznym mogą być odszyfrowane tylko za pomocą klucza prywat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e zaszyfrowane kluczem prywatnym mogą być odszyfrowane tylko za pomocą klucza publicz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lety podpisania podzespołu silną nazw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warancja unikalnej nazw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trola wers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trola integralnoś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 podpisywania podzespoł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32000" y="2852640"/>
            <a:ext cx="388764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Obliczanie wartości funkcji haszującej podzespoł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Użycie </a:t>
            </a:r>
            <a:r>
              <a:rPr b="0" lang="pl-PL" sz="2000" spc="-1" strike="noStrike" u="sng">
                <a:solidFill>
                  <a:srgbClr val="003cb4"/>
                </a:solidFill>
                <a:uFillTx/>
                <a:latin typeface="Arial"/>
              </a:rPr>
              <a:t>klucza prywatnego</a:t>
            </a: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 do zaszyfrowania wartości funkcji haszującej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Dołączenie zaszyfrowanej wartości do podzespoł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Dołączenie do podzespołu </a:t>
            </a:r>
            <a:r>
              <a:rPr b="0" lang="pl-PL" sz="2000" spc="-1" strike="noStrike" u="sng">
                <a:solidFill>
                  <a:srgbClr val="003cb4"/>
                </a:solidFill>
                <a:uFillTx/>
                <a:latin typeface="Arial"/>
              </a:rPr>
              <a:t>klucza publicznego</a:t>
            </a: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71640" y="2421000"/>
            <a:ext cx="2303280" cy="1079280"/>
            <a:chOff x="971640" y="2421000"/>
            <a:chExt cx="2303280" cy="1079280"/>
          </a:xfrm>
        </p:grpSpPr>
        <p:sp>
          <p:nvSpPr>
            <p:cNvPr id="116" name=""/>
            <p:cNvSpPr/>
            <p:nvPr/>
          </p:nvSpPr>
          <p:spPr>
            <a:xfrm>
              <a:off x="971640" y="2421000"/>
              <a:ext cx="230328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87280" y="2924280"/>
              <a:ext cx="187128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33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Metadan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71640" y="4221000"/>
            <a:ext cx="2303280" cy="2017800"/>
            <a:chOff x="971640" y="4221000"/>
            <a:chExt cx="2303280" cy="2017800"/>
          </a:xfrm>
        </p:grpSpPr>
        <p:sp>
          <p:nvSpPr>
            <p:cNvPr id="119" name=""/>
            <p:cNvSpPr/>
            <p:nvPr/>
          </p:nvSpPr>
          <p:spPr>
            <a:xfrm>
              <a:off x="971640" y="4221000"/>
              <a:ext cx="2303280" cy="20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4724280"/>
              <a:ext cx="187308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33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Metadan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87280" y="5805360"/>
              <a:ext cx="187308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Hash val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3280" y="5229360"/>
              <a:ext cx="1439640" cy="28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434400">
            <a:off x="3348000" y="2924280"/>
            <a:ext cx="1511280" cy="576000"/>
          </a:xfrm>
          <a:prstGeom prst="rightArrow">
            <a:avLst>
              <a:gd name="adj1" fmla="val 50000"/>
              <a:gd name="adj2" fmla="val 6559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9750600">
            <a:off x="3347640" y="508392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2:14:24Z</dcterms:created>
  <dc:creator>qbens0</dc:creator>
  <dc:description/>
  <dc:language>en-US</dc:language>
  <cp:lastModifiedBy>Piotr Jakóbczyk</cp:lastModifiedBy>
  <dcterms:modified xsi:type="dcterms:W3CDTF">2005-10-19T10:06:44Z</dcterms:modified>
  <cp:revision>22</cp:revision>
  <dc:subject/>
  <dc:title>Slide 1</dc:title>
</cp:coreProperties>
</file>